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BF5-0C3C-447B-8DC9-4B4A232F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B17-14D6-4661-9148-9946C28F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D20-C0FE-4870-A7D9-7C7F651A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FFC-11C2-4A03-AD16-284B37EA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CC9B-3EBB-4520-9363-FEE743E2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8F25-5DED-40EB-B854-1ACEBC24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887A-E2C1-4E95-993F-7AEEBC2B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B9E5-1A66-487C-B2DC-5954E9B7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C236-C564-4EB3-853B-A440F4C1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699A-F65D-41F4-A101-7DD7C35F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0C23-49B7-40D1-9354-DCF141A5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443-83C9-47D9-BD4C-5C894DE0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EC88-D636-4441-B890-63CD25DB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4A59-297D-44D6-92EF-E5C0B8CC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BE25-48FE-4815-9E36-BE022016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8E05-31E9-4FAB-8807-E68DB9D5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3F6D-23C4-4871-B636-157009CE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187-6F2D-4C17-B89F-3581CAC8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5497-1A06-47A9-877D-7E43FB4C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61E-B257-41C6-A916-576997B6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8CE-839A-4EDB-ABDF-2719F00E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F32-4F58-4398-884F-6BD1B876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562-33B5-4774-B0D7-BA22F033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9AC-3C83-4D98-A589-55A7E2F8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4826-0D23-4291-BB99-61D7D9C50F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63F0-5220-422D-9BD7-B9265190E59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vivirlatino.com/i/jan06/h_4_ill_676197_usa-mexico-border-31.jpg&amp;imgrefurl=http://vivirlatino.com/2006/02/01/mexico-needs-pr.php&amp;h=385&amp;w=575&amp;sz=40&amp;hl=en&amp;start=24&amp;um=1&amp;tbnid=fZwqd7lr8t8dXM:&amp;tbnh=90&amp;tbnw=134&amp;prev=/images%3Fq%3DU.S.%2BMexico%2BBorder%26start%3D20%26gbv%3D2%26ndsp%3D20%26svnum%3D10%26um%3D1%26hl%3Den%26sa%3D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ruthinourworld.com/images/illegalimgmay15gweb7su.jpg&amp;imgrefurl=http://truthinourworld.com/Immigration.aspx&amp;h=424&amp;w=500&amp;sz=60&amp;hl=en&amp;start=46&amp;um=1&amp;tbnid=JrxyqCIUmjTtNM:&amp;tbnh=110&amp;tbnw=130&amp;prev=/images%3Fq%3DIllegal%2BImmigration%26start%3D40%26gbv%3D2%26ndsp%3D20%26svnum%3D10%26um%3D1%26hl%3Den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llegal Immigr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-4536" t="-11123" r="-9081" b="1170"/>
          <a:stretch/>
        </p:blipFill>
        <p:spPr>
          <a:xfrm>
            <a:off x="1371600" y="1828800"/>
            <a:ext cx="6705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2388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ere do the Immigrants Go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" descr="Figure 3"/>
          <p:cNvPicPr/>
          <p:nvPr/>
        </p:nvPicPr>
        <p:blipFill>
          <a:blip r:embed="rId1"/>
          <a:stretch/>
        </p:blipFill>
        <p:spPr>
          <a:xfrm>
            <a:off x="1066680" y="1447920"/>
            <a:ext cx="7162920" cy="4647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14400" y="6172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Californi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exa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ew York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llinoi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Flor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y Do Illegal Immigrants Come to the U.S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B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% Unemployment rate in Mex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has exploded in past 5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xican Average wage is 1/10 of American W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429000" cy="2400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105520" y="4724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-A migrant worker picks strawberri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029200"/>
            <a:ext cx="40384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MILY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come to live with family already in U.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76520" y="4648320"/>
            <a:ext cx="586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y Mexican workers toiled on farms on the West Coast until they got construction jobs several years ago. But building jobs dried up in October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O GETS IN LEGALLY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0,000-200,000 Mexicans immigrate legally each year (Naturalization Proc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ferences given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 relatives of a legal U.S. 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lled workers or profession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**Many come illegally because the legal naturalization is backlog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ossing the Board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191360" cy="5381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640080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.S.-Mexico border is 1952 miles 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5530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685800"/>
            <a:ext cx="7010640" cy="4708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5486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torists must be careful of people crossing the border near major highway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ossing The Bord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yotes” help smuggle many illegal aliens into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Dangerous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caught illegals are not brought to trial (catch and rele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858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 of Immigr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752480"/>
            <a:ext cx="8001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 1880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Immigrants came from Northern and West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80-1920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arly 24 million people came from South and East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80’s to Today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immigrants come from Asia,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533520"/>
            <a:ext cx="6019560" cy="5092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3880" y="571500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roup of Illegal Aliens are caught by the U.S. Border Pa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460440"/>
            <a:ext cx="7620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How has U.S. been able to accommodate so many Immigrant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A. is a Nation of Immi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leration of different religions/tra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cally Strong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Part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510552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How have we NOT been so accommodating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ativ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avoring interests of people born in America of those of immi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inese Exclusion Act 1882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vented Chinese from becoming U.S. citiz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ota System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llowed only certain #’s of Immigrants from each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23888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inese Exclusion Ac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Facts on Illegal Immigr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million Illegal Immigrants in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ximately 1.1 million per year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Illegals come from 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work in unskilled labor fields: Agriculture, Construction, Restaurant/ho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9:53:27Z</dcterms:created>
  <dc:creator>gx270</dc:creator>
  <dc:description/>
  <dc:language>en-US</dc:language>
  <cp:lastModifiedBy>gx270</cp:lastModifiedBy>
  <dcterms:modified xsi:type="dcterms:W3CDTF">2007-09-25T22:40:44Z</dcterms:modified>
  <cp:revision>3</cp:revision>
  <dc:subject/>
  <dc:title>Illegal Immigration</dc:title>
</cp:coreProperties>
</file>